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861-CF71-45B3-9E00-DC52C55B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E28-FC5F-4668-9274-E366A6A8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99B-8CDE-47E9-902A-19AFD2EC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D07-A306-4440-99F5-39FE4AEC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BFF-7F6B-457D-819E-5F519B33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44B-35EA-4057-930B-046A7834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677-6458-4AE6-BA64-DD158806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CF9-5663-4AD7-A2BE-D3E2CFC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4EE-31E5-45CC-BA76-F5F2FE69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F1B-7D2B-4634-8135-EAFE1E4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A88-9CF6-43A1-8776-D7327F6D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0A8-F4FD-475B-9463-EDCCDA83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3BC1-7E6D-491B-B613-9D81345B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02 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9 de octubre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la Prueba del Repaso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INDIVIDU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ermano de mi m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os padres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ijo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her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 T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99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looking in your notebooks; Conjugate and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2362320"/>
          <a:ext cx="9067680" cy="3932280"/>
        </p:xfrm>
        <a:graphic>
          <a:graphicData uri="http://schemas.openxmlformats.org/drawingml/2006/table">
            <a:tbl>
              <a:tblPr/>
              <a:tblGrid>
                <a:gridCol w="3022560"/>
                <a:gridCol w="3022560"/>
                <a:gridCol w="3022560"/>
              </a:tblGrid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6" name="Text Box 4"/>
          <p:cNvSpPr/>
          <p:nvPr/>
        </p:nvSpPr>
        <p:spPr>
          <a:xfrm>
            <a:off x="3939840" y="3027240"/>
            <a:ext cx="132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en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966120" y="3733920"/>
            <a:ext cx="138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2d2d8a"/>
                </a:solidFill>
                <a:latin typeface="Arial"/>
              </a:rPr>
              <a:t>ie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017960" y="4398840"/>
            <a:ext cx="117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2d2d8a"/>
                </a:solidFill>
                <a:latin typeface="Arial"/>
              </a:rPr>
              <a:t>ie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805200" y="5008680"/>
            <a:ext cx="185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ene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67200" y="5770440"/>
            <a:ext cx="140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2d2d8a"/>
                </a:solidFill>
                <a:latin typeface="Arial"/>
              </a:rPr>
              <a:t>ie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97920" y="30481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(I 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251760" y="3728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(You 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252120" y="4267080"/>
            <a:ext cx="192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(s/he h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you [pol.] h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550200" y="5100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(We 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6640" y="5710320"/>
            <a:ext cx="230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(They hav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You [pol. pl.] h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067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familia grande o peque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hermanos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n ell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Y cuántos años tien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stedes un perro o un g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¿Tiene tu padre o tu madre un car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En la escuela, ¿tienes que estudiar muc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¿Y tienen que trabajar mucho tus pad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e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tu mejor amigo, ¿Cuántos año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ds. una masco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onde vive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stedes una casa privada o un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masco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EL VERBO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summer project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7:41:09Z</dcterms:created>
  <dc:creator>Helen Zumaeta</dc:creator>
  <dc:description/>
  <dc:language>en-US</dc:language>
  <cp:lastModifiedBy>Helen Zumaeta</cp:lastModifiedBy>
  <dcterms:modified xsi:type="dcterms:W3CDTF">2015-10-19T19:22:18Z</dcterms:modified>
  <cp:revision>15</cp:revision>
  <dc:subject/>
  <dc:title>Slide 1</dc:title>
</cp:coreProperties>
</file>